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A6A5-DA0D-441B-93C0-02D5F9D54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358E-4D72-4761-AD5C-72001EB5E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32AD-18DE-401A-9BE3-E4834A979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1BFC-7313-4FE6-9CCF-9F29309CE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3DAF-3FB1-4724-A6C1-DF6639506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224C-508D-4DA9-9D59-6729B4409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B6F0-54F7-45F9-A9AB-0B46F7660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9B7E-7A4A-4E0C-A276-A2F62554B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E5E0-5EE8-4294-B67A-45524412B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184C-782F-4EB0-80E8-31D0AEB9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4396-C4A4-4E24-932A-DADFA715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1226-50F5-43E8-B389-3AE225EB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7B25E-89E1-47BC-970C-5AEAB4C8A1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автономное общеобразовательное учреждение средняя общеобразовательная школа № 88 города Тюме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ильник из подручных материал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3635280" y="4599000"/>
            <a:ext cx="504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О, класс автора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О, руководителя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826920" y="214200"/>
            <a:ext cx="78487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проекта:……………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……………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Разработать конструкцию издел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писать технологию изготовления в технологической карт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Исследовать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Выявить возможные недостатки в конструкции, сборке..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1143000" y="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рабо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89080" y="642960"/>
          <a:ext cx="8640720" cy="5821200"/>
        </p:xfrm>
        <a:graphic>
          <a:graphicData uri="http://schemas.openxmlformats.org/drawingml/2006/table">
            <a:tbl>
              <a:tblPr/>
              <a:tblGrid>
                <a:gridCol w="3168360"/>
                <a:gridCol w="2376720"/>
                <a:gridCol w="3095640"/>
              </a:tblGrid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опер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рафическое изобра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спользуемое оборудование и инструмен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брать необходимые материалы для изготовления …… в соответствии с эскиз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90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33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971640" y="260280"/>
            <a:ext cx="6840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рабо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 (изделия, результата работ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оцен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номическое обоснов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826920" y="4591080"/>
          <a:ext cx="7848720" cy="2124000"/>
        </p:xfrm>
        <a:graphic>
          <a:graphicData uri="http://schemas.openxmlformats.org/drawingml/2006/table">
            <a:tbl>
              <a:tblPr/>
              <a:tblGrid>
                <a:gridCol w="2616480"/>
                <a:gridCol w="2616120"/>
                <a:gridCol w="261612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материа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личеств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оимо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анера (пример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ш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р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6T03:12:15Z</dcterms:created>
  <dc:creator>terry</dc:creator>
  <dc:description/>
  <dc:language>en-US</dc:language>
  <cp:lastModifiedBy>Ольга</cp:lastModifiedBy>
  <dcterms:modified xsi:type="dcterms:W3CDTF">2023-01-31T18:36:57Z</dcterms:modified>
  <cp:revision>4</cp:revision>
  <dc:subject/>
  <dc:title>Муниципальное автономное общеобразовательное учреждение средняя общеобразовательная школа № 88 города Тюмени</dc:title>
</cp:coreProperties>
</file>